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7560"/>
            <a:chOff x="0" y="0"/>
            <a:chExt cx="9144000" cy="547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custGeom>
              <a:avLst/>
              <a:gdLst>
                <a:gd name="textAreaLeft" fmla="*/ 360 w 285840"/>
                <a:gd name="textAreaRight" fmla="*/ 285480 w 285840"/>
                <a:gd name="textAreaTop" fmla="*/ 360 h 533520"/>
                <a:gd name="textAreaBottom" fmla="*/ 533160 h 533520"/>
              </a:gdLst>
              <a:ahLst/>
              <a:rect l="textAreaLeft" t="textAreaTop" r="textAreaRight" b="textAreaBottom"/>
              <a:pathLst>
                <a:path w="21600" h="40293">
                  <a:moveTo>
                    <a:pt x="120" y="0"/>
                  </a:moveTo>
                  <a:arcTo wR="120" hR="120" stAng="16200000" swAng="-5400000"/>
                  <a:lnTo>
                    <a:pt x="0" y="40173"/>
                  </a:lnTo>
                  <a:arcTo wR="120" hR="120" stAng="10800000" swAng="-5400000"/>
                  <a:lnTo>
                    <a:pt x="21480" y="40293"/>
                  </a:lnTo>
                  <a:arcTo wR="120" hR="120" stAng="5400000" swAng="-5400000"/>
                  <a:lnTo>
                    <a:pt x="21600" y="120"/>
                  </a:lnTo>
                  <a:arcTo wR="120" hR="12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oundRect">
              <a:avLst>
                <a:gd name="adj" fmla="val 57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custGeom>
              <a:avLst/>
              <a:gdLst>
                <a:gd name="textAreaLeft" fmla="*/ 360 w 137880"/>
                <a:gd name="textAreaRight" fmla="*/ 137520 w 137880"/>
                <a:gd name="textAreaTop" fmla="*/ 360 h 141120"/>
                <a:gd name="textAreaBottom" fmla="*/ 140760 h 141120"/>
              </a:gdLst>
              <a:ahLst/>
              <a:rect l="textAreaLeft" t="textAreaTop" r="textAreaRight" b="textAreaBottom"/>
              <a:pathLst>
                <a:path w="21600" h="22106">
                  <a:moveTo>
                    <a:pt x="251" y="0"/>
                  </a:moveTo>
                  <a:arcTo wR="251" hR="251" stAng="16200000" swAng="-5400000"/>
                  <a:lnTo>
                    <a:pt x="0" y="21855"/>
                  </a:lnTo>
                  <a:arcTo wR="251" hR="251" stAng="10800000" swAng="-5400000"/>
                  <a:lnTo>
                    <a:pt x="21349" y="22106"/>
                  </a:lnTo>
                  <a:arcTo wR="251" hR="251" stAng="5400000" swAng="-5400000"/>
                  <a:lnTo>
                    <a:pt x="21600" y="251"/>
                  </a:lnTo>
                  <a:arcTo wR="251" hR="251" stAng="0" swAng="-5400000"/>
                  <a:close/>
                </a:path>
              </a:pathLst>
            </a:cu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oundRect">
              <a:avLst>
                <a:gd name="adj" fmla="val 1162"/>
              </a:avLst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custGeom>
              <a:avLst/>
              <a:gdLst>
                <a:gd name="textAreaLeft" fmla="*/ 360 w 139680"/>
                <a:gd name="textAreaRight" fmla="*/ 139320 w 139680"/>
                <a:gd name="textAreaTop" fmla="*/ 360 h 141120"/>
                <a:gd name="textAreaBottom" fmla="*/ 140760 h 141120"/>
              </a:gdLst>
              <a:ahLst/>
              <a:rect l="textAreaLeft" t="textAreaTop" r="textAreaRight" b="textAreaBottom"/>
              <a:pathLst>
                <a:path w="21600" h="21822">
                  <a:moveTo>
                    <a:pt x="245" y="0"/>
                  </a:moveTo>
                  <a:arcTo wR="245" hR="245" stAng="16200000" swAng="-5400000"/>
                  <a:lnTo>
                    <a:pt x="0" y="21577"/>
                  </a:lnTo>
                  <a:arcTo wR="245" hR="245" stAng="10800000" swAng="-5400000"/>
                  <a:lnTo>
                    <a:pt x="21355" y="21822"/>
                  </a:lnTo>
                  <a:arcTo wR="245" hR="245" stAng="5400000" swAng="-5400000"/>
                  <a:lnTo>
                    <a:pt x="21600" y="245"/>
                  </a:lnTo>
                  <a:arcTo wR="245" hR="245" stAng="0" swAng="-5400000"/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custGeom>
              <a:avLst/>
              <a:gdLst>
                <a:gd name="textAreaLeft" fmla="*/ 360 w 136440"/>
                <a:gd name="textAreaRight" fmla="*/ 136080 w 136440"/>
                <a:gd name="textAreaTop" fmla="*/ 360 h 138240"/>
                <a:gd name="textAreaBottom" fmla="*/ 137880 h 138240"/>
              </a:gdLst>
              <a:ahLst/>
              <a:rect l="textAreaLeft" t="textAreaTop" r="textAreaRight" b="textAreaBottom"/>
              <a:pathLst>
                <a:path w="21600" h="21884">
                  <a:moveTo>
                    <a:pt x="251" y="0"/>
                  </a:moveTo>
                  <a:arcTo wR="251" hR="251" stAng="16200000" swAng="-5400000"/>
                  <a:lnTo>
                    <a:pt x="0" y="21633"/>
                  </a:lnTo>
                  <a:arcTo wR="251" hR="251" stAng="10800000" swAng="-5400000"/>
                  <a:lnTo>
                    <a:pt x="21349" y="21884"/>
                  </a:lnTo>
                  <a:arcTo wR="251" hR="251" stAng="5400000" swAng="-5400000"/>
                  <a:lnTo>
                    <a:pt x="21600" y="251"/>
                  </a:lnTo>
                  <a:arcTo wR="251" hR="251" stAng="0" swAng="-5400000"/>
                  <a:close/>
                </a:path>
              </a:pathLst>
            </a:cu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oundRect">
              <a:avLst>
                <a:gd name="adj" fmla="val 1162"/>
              </a:avLst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custGeom>
              <a:avLst/>
              <a:gdLst>
                <a:gd name="textAreaLeft" fmla="*/ 360 w 137880"/>
                <a:gd name="textAreaRight" fmla="*/ 137520 w 137880"/>
                <a:gd name="textAreaTop" fmla="*/ 360 h 138240"/>
                <a:gd name="textAreaBottom" fmla="*/ 137880 h 138240"/>
              </a:gdLst>
              <a:ahLst/>
              <a:rect l="textAreaLeft" t="textAreaTop" r="textAreaRight" b="textAreaBottom"/>
              <a:pathLst>
                <a:path w="21600" h="21656">
                  <a:moveTo>
                    <a:pt x="251" y="0"/>
                  </a:moveTo>
                  <a:arcTo wR="251" hR="251" stAng="16200000" swAng="-5400000"/>
                  <a:lnTo>
                    <a:pt x="0" y="21405"/>
                  </a:lnTo>
                  <a:arcTo wR="251" hR="251" stAng="10800000" swAng="-5400000"/>
                  <a:lnTo>
                    <a:pt x="21349" y="21656"/>
                  </a:lnTo>
                  <a:arcTo wR="251" hR="251" stAng="5400000" swAng="-5400000"/>
                  <a:lnTo>
                    <a:pt x="21600" y="251"/>
                  </a:lnTo>
                  <a:arcTo wR="251" hR="251" stAng="0" swAng="-5400000"/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11120"/>
              <a:ext cx="136440" cy="136440"/>
            </a:xfrm>
            <a:prstGeom prst="roundRect">
              <a:avLst>
                <a:gd name="adj" fmla="val 1162"/>
              </a:avLst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turnkey.sf.net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10080720" cy="7559640"/>
            <a:chOff x="0" y="0"/>
            <a:chExt cx="10080720" cy="755964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863880" cy="7559640"/>
            </a:xfrm>
            <a:custGeom>
              <a:avLst/>
              <a:gdLst>
                <a:gd name="textAreaLeft" fmla="*/ 360 w 3863880"/>
                <a:gd name="textAreaRight" fmla="*/ 3863520 w 3863880"/>
                <a:gd name="textAreaTop" fmla="*/ 360 h 7559640"/>
                <a:gd name="textAreaBottom" fmla="*/ 7559280 h 7559640"/>
              </a:gdLst>
              <a:ahLst/>
              <a:rect l="textAreaLeft" t="textAreaTop" r="textAreaRight" b="textAreaBottom"/>
              <a:pathLst>
                <a:path w="21600" h="42258">
                  <a:moveTo>
                    <a:pt x="8" y="0"/>
                  </a:moveTo>
                  <a:arcTo wR="8" hR="8" stAng="16200000" swAng="-5400000"/>
                  <a:lnTo>
                    <a:pt x="0" y="42250"/>
                  </a:lnTo>
                  <a:arcTo wR="8" hR="8" stAng="10800000" swAng="-5400000"/>
                  <a:lnTo>
                    <a:pt x="21592" y="42258"/>
                  </a:lnTo>
                  <a:arcTo wR="8" hR="8" stAng="5400000" swAng="-5400000"/>
                  <a:lnTo>
                    <a:pt x="21600" y="8"/>
                  </a:lnTo>
                  <a:arcTo wR="8" hR="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92160" y="1863720"/>
              <a:ext cx="8188560" cy="2793960"/>
            </a:xfrm>
            <a:prstGeom prst="roundRect">
              <a:avLst>
                <a:gd name="adj" fmla="val 56"/>
              </a:avLst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1176480"/>
              <a:ext cx="3160800" cy="3479760"/>
              <a:chOff x="0" y="1176480"/>
              <a:chExt cx="3160800" cy="3479760"/>
            </a:xfrm>
          </p:grpSpPr>
          <p:sp>
            <p:nvSpPr>
              <p:cNvPr id="52" name=""/>
              <p:cNvSpPr/>
              <p:nvPr/>
            </p:nvSpPr>
            <p:spPr>
              <a:xfrm>
                <a:off x="631800" y="3949560"/>
                <a:ext cx="635040" cy="706680"/>
              </a:xfrm>
              <a:custGeom>
                <a:avLst/>
                <a:gdLst>
                  <a:gd name="textAreaLeft" fmla="*/ 360 w 635040"/>
                  <a:gd name="textAreaRight" fmla="*/ 634680 w 635040"/>
                  <a:gd name="textAreaTop" fmla="*/ 360 h 706680"/>
                  <a:gd name="textAreaBottom" fmla="*/ 706320 h 706680"/>
                </a:gdLst>
                <a:ahLst/>
                <a:rect l="textAreaLeft" t="textAreaTop" r="textAreaRight" b="textAreaBottom"/>
                <a:pathLst>
                  <a:path w="21600" h="24035">
                    <a:moveTo>
                      <a:pt x="54" y="0"/>
                    </a:moveTo>
                    <a:arcTo wR="54" hR="54" stAng="16200000" swAng="-5400000"/>
                    <a:lnTo>
                      <a:pt x="0" y="23981"/>
                    </a:lnTo>
                    <a:arcTo wR="54" hR="54" stAng="10800000" swAng="-5400000"/>
                    <a:lnTo>
                      <a:pt x="21546" y="24035"/>
                    </a:lnTo>
                    <a:arcTo wR="54" hR="54" stAng="5400000" swAng="-5400000"/>
                    <a:lnTo>
                      <a:pt x="21600" y="54"/>
                    </a:lnTo>
                    <a:arcTo wR="54" hR="54" stAng="0" swAng="-5400000"/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92160" y="1863720"/>
                <a:ext cx="633600" cy="709560"/>
              </a:xfrm>
              <a:custGeom>
                <a:avLst/>
                <a:gdLst>
                  <a:gd name="textAreaLeft" fmla="*/ 360 w 633600"/>
                  <a:gd name="textAreaRight" fmla="*/ 633240 w 633600"/>
                  <a:gd name="textAreaTop" fmla="*/ 360 h 709560"/>
                  <a:gd name="textAreaBottom" fmla="*/ 709200 h 709560"/>
                </a:gdLst>
                <a:ahLst/>
                <a:rect l="textAreaLeft" t="textAreaTop" r="textAreaRight" b="textAreaBottom"/>
                <a:pathLst>
                  <a:path w="21600" h="24188">
                    <a:moveTo>
                      <a:pt x="54" y="0"/>
                    </a:moveTo>
                    <a:arcTo wR="54" hR="54" stAng="16200000" swAng="-5400000"/>
                    <a:lnTo>
                      <a:pt x="0" y="24134"/>
                    </a:lnTo>
                    <a:arcTo wR="54" hR="54" stAng="10800000" swAng="-5400000"/>
                    <a:lnTo>
                      <a:pt x="21546" y="24188"/>
                    </a:lnTo>
                    <a:arcTo wR="54" hR="54" stAng="5400000" swAng="-5400000"/>
                    <a:lnTo>
                      <a:pt x="21600" y="54"/>
                    </a:lnTo>
                    <a:arcTo wR="54" hR="54" stAng="0" swAng="-5400000"/>
                    <a:close/>
                  </a:path>
                </a:pathLst>
              </a:cu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14600" y="1176480"/>
                <a:ext cx="646200" cy="699840"/>
              </a:xfrm>
              <a:custGeom>
                <a:avLst/>
                <a:gdLst>
                  <a:gd name="textAreaLeft" fmla="*/ 360 w 646200"/>
                  <a:gd name="textAreaRight" fmla="*/ 645840 w 646200"/>
                  <a:gd name="textAreaTop" fmla="*/ 360 h 699840"/>
                  <a:gd name="textAreaBottom" fmla="*/ 699480 h 699840"/>
                </a:gdLst>
                <a:ahLst/>
                <a:rect l="textAreaLeft" t="textAreaTop" r="textAreaRight" b="textAreaBottom"/>
                <a:pathLst>
                  <a:path w="21600" h="23392">
                    <a:moveTo>
                      <a:pt x="53" y="0"/>
                    </a:moveTo>
                    <a:arcTo wR="53" hR="53" stAng="16200000" swAng="-5400000"/>
                    <a:lnTo>
                      <a:pt x="0" y="23339"/>
                    </a:lnTo>
                    <a:arcTo wR="53" hR="53" stAng="10800000" swAng="-5400000"/>
                    <a:lnTo>
                      <a:pt x="21547" y="23392"/>
                    </a:lnTo>
                    <a:arcTo wR="53" hR="53" stAng="5400000" swAng="-5400000"/>
                    <a:lnTo>
                      <a:pt x="21600" y="53"/>
                    </a:lnTo>
                    <a:arcTo wR="53" hR="53" stAng="0" swAng="-5400000"/>
                    <a:close/>
                  </a:path>
                </a:pathLst>
              </a:cu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58920" y="3949560"/>
                <a:ext cx="644400" cy="706680"/>
              </a:xfrm>
              <a:custGeom>
                <a:avLst/>
                <a:gdLst>
                  <a:gd name="textAreaLeft" fmla="*/ 360 w 644400"/>
                  <a:gd name="textAreaRight" fmla="*/ 644040 w 644400"/>
                  <a:gd name="textAreaTop" fmla="*/ 360 h 706680"/>
                  <a:gd name="textAreaBottom" fmla="*/ 706320 h 706680"/>
                </a:gdLst>
                <a:ahLst/>
                <a:rect l="textAreaLeft" t="textAreaTop" r="textAreaRight" b="textAreaBottom"/>
                <a:pathLst>
                  <a:path w="21600" h="23686">
                    <a:moveTo>
                      <a:pt x="53" y="0"/>
                    </a:moveTo>
                    <a:arcTo wR="53" hR="53" stAng="16200000" swAng="-5400000"/>
                    <a:lnTo>
                      <a:pt x="0" y="23633"/>
                    </a:lnTo>
                    <a:arcTo wR="53" hR="53" stAng="10800000" swAng="-5400000"/>
                    <a:lnTo>
                      <a:pt x="21547" y="23686"/>
                    </a:lnTo>
                    <a:arcTo wR="53" hR="53" stAng="5400000" swAng="-5400000"/>
                    <a:lnTo>
                      <a:pt x="21600" y="53"/>
                    </a:lnTo>
                    <a:arcTo wR="53" hR="53" stAng="0" swAng="-5400000"/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514600" y="1863720"/>
                <a:ext cx="646200" cy="709560"/>
              </a:xfrm>
              <a:custGeom>
                <a:avLst/>
                <a:gdLst>
                  <a:gd name="textAreaLeft" fmla="*/ 360 w 646200"/>
                  <a:gd name="textAreaRight" fmla="*/ 645840 w 646200"/>
                  <a:gd name="textAreaTop" fmla="*/ 360 h 709560"/>
                  <a:gd name="textAreaBottom" fmla="*/ 709200 h 709560"/>
                </a:gdLst>
                <a:ahLst/>
                <a:rect l="textAreaLeft" t="textAreaTop" r="textAreaRight" b="textAreaBottom"/>
                <a:pathLst>
                  <a:path w="21600" h="23717">
                    <a:moveTo>
                      <a:pt x="53" y="0"/>
                    </a:moveTo>
                    <a:arcTo wR="53" hR="53" stAng="16200000" swAng="-5400000"/>
                    <a:lnTo>
                      <a:pt x="0" y="23664"/>
                    </a:lnTo>
                    <a:arcTo wR="53" hR="53" stAng="10800000" swAng="-5400000"/>
                    <a:lnTo>
                      <a:pt x="21547" y="23717"/>
                    </a:lnTo>
                    <a:arcTo wR="53" hR="53" stAng="5400000" swAng="-5400000"/>
                    <a:lnTo>
                      <a:pt x="21600" y="53"/>
                    </a:lnTo>
                    <a:arcTo wR="53" hR="53" stAng="0" swAng="-5400000"/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58920" y="2562120"/>
                <a:ext cx="644400" cy="698760"/>
              </a:xfrm>
              <a:custGeom>
                <a:avLst/>
                <a:gdLst>
                  <a:gd name="textAreaLeft" fmla="*/ 360 w 644400"/>
                  <a:gd name="textAreaRight" fmla="*/ 644040 w 644400"/>
                  <a:gd name="textAreaTop" fmla="*/ 360 h 698760"/>
                  <a:gd name="textAreaBottom" fmla="*/ 698400 h 698760"/>
                </a:gdLst>
                <a:ahLst/>
                <a:rect l="textAreaLeft" t="textAreaTop" r="textAreaRight" b="textAreaBottom"/>
                <a:pathLst>
                  <a:path w="21600" h="23421">
                    <a:moveTo>
                      <a:pt x="53" y="0"/>
                    </a:moveTo>
                    <a:arcTo wR="53" hR="53" stAng="16200000" swAng="-5400000"/>
                    <a:lnTo>
                      <a:pt x="0" y="23368"/>
                    </a:lnTo>
                    <a:arcTo wR="53" hR="53" stAng="10800000" swAng="-5400000"/>
                    <a:lnTo>
                      <a:pt x="21547" y="23421"/>
                    </a:lnTo>
                    <a:arcTo wR="53" hR="53" stAng="5400000" swAng="-5400000"/>
                    <a:lnTo>
                      <a:pt x="21600" y="53"/>
                    </a:lnTo>
                    <a:arcTo wR="53" hR="53" stAng="0" swAng="-5400000"/>
                    <a:close/>
                  </a:path>
                </a:pathLst>
              </a:cu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562120"/>
                <a:ext cx="642960" cy="698760"/>
              </a:xfrm>
              <a:custGeom>
                <a:avLst/>
                <a:gdLst>
                  <a:gd name="textAreaLeft" fmla="*/ 360 w 642960"/>
                  <a:gd name="textAreaRight" fmla="*/ 642600 w 642960"/>
                  <a:gd name="textAreaTop" fmla="*/ 360 h 698760"/>
                  <a:gd name="textAreaBottom" fmla="*/ 698400 h 698760"/>
                </a:gdLst>
                <a:ahLst/>
                <a:rect l="textAreaLeft" t="textAreaTop" r="textAreaRight" b="textAreaBottom"/>
                <a:pathLst>
                  <a:path w="21600" h="23474">
                    <a:moveTo>
                      <a:pt x="53" y="0"/>
                    </a:moveTo>
                    <a:arcTo wR="53" hR="53" stAng="16200000" swAng="-5400000"/>
                    <a:lnTo>
                      <a:pt x="0" y="23421"/>
                    </a:lnTo>
                    <a:arcTo wR="53" hR="53" stAng="10800000" swAng="-5400000"/>
                    <a:lnTo>
                      <a:pt x="21547" y="23474"/>
                    </a:lnTo>
                    <a:arcTo wR="53" hR="53" stAng="5400000" swAng="-5400000"/>
                    <a:lnTo>
                      <a:pt x="21600" y="53"/>
                    </a:lnTo>
                    <a:arcTo wR="53" hR="53" stAng="0" swAng="-5400000"/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92160" y="2562120"/>
                <a:ext cx="633600" cy="698760"/>
              </a:xfrm>
              <a:custGeom>
                <a:avLst/>
                <a:gdLst>
                  <a:gd name="textAreaLeft" fmla="*/ 360 w 633600"/>
                  <a:gd name="textAreaRight" fmla="*/ 633240 w 633600"/>
                  <a:gd name="textAreaTop" fmla="*/ 360 h 698760"/>
                  <a:gd name="textAreaBottom" fmla="*/ 698400 h 698760"/>
                </a:gdLst>
                <a:ahLst/>
                <a:rect l="textAreaLeft" t="textAreaTop" r="textAreaRight" b="textAreaBottom"/>
                <a:pathLst>
                  <a:path w="21600" h="23820">
                    <a:moveTo>
                      <a:pt x="54" y="0"/>
                    </a:moveTo>
                    <a:arcTo wR="54" hR="54" stAng="16200000" swAng="-5400000"/>
                    <a:lnTo>
                      <a:pt x="0" y="23766"/>
                    </a:lnTo>
                    <a:arcTo wR="54" hR="54" stAng="10800000" swAng="-5400000"/>
                    <a:lnTo>
                      <a:pt x="21546" y="23820"/>
                    </a:lnTo>
                    <a:arcTo wR="54" hR="54" stAng="5400000" swAng="-5400000"/>
                    <a:lnTo>
                      <a:pt x="21600" y="54"/>
                    </a:lnTo>
                    <a:arcTo wR="54" hR="54" stAng="0" swAng="-5400000"/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31800" y="3249720"/>
                <a:ext cx="635040" cy="711000"/>
              </a:xfrm>
              <a:custGeom>
                <a:avLst/>
                <a:gdLst>
                  <a:gd name="textAreaLeft" fmla="*/ 360 w 635040"/>
                  <a:gd name="textAreaRight" fmla="*/ 634680 w 635040"/>
                  <a:gd name="textAreaTop" fmla="*/ 360 h 711000"/>
                  <a:gd name="textAreaBottom" fmla="*/ 710640 h 711000"/>
                </a:gdLst>
                <a:ahLst/>
                <a:rect l="textAreaLeft" t="textAreaTop" r="textAreaRight" b="textAreaBottom"/>
                <a:pathLst>
                  <a:path w="21600" h="24182">
                    <a:moveTo>
                      <a:pt x="54" y="0"/>
                    </a:moveTo>
                    <a:arcTo wR="54" hR="54" stAng="16200000" swAng="-5400000"/>
                    <a:lnTo>
                      <a:pt x="0" y="24128"/>
                    </a:lnTo>
                    <a:arcTo wR="54" hR="54" stAng="10800000" swAng="-5400000"/>
                    <a:lnTo>
                      <a:pt x="21546" y="24182"/>
                    </a:lnTo>
                    <a:arcTo wR="54" hR="54" stAng="5400000" swAng="-5400000"/>
                    <a:lnTo>
                      <a:pt x="21600" y="54"/>
                    </a:lnTo>
                    <a:arcTo wR="54" hR="54" stAng="0" swAng="-5400000"/>
                    <a:close/>
                  </a:path>
                </a:pathLst>
              </a:cu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258920" y="3249720"/>
                <a:ext cx="644400" cy="711000"/>
              </a:xfrm>
              <a:custGeom>
                <a:avLst/>
                <a:gdLst>
                  <a:gd name="textAreaLeft" fmla="*/ 360 w 644400"/>
                  <a:gd name="textAreaRight" fmla="*/ 644040 w 644400"/>
                  <a:gd name="textAreaTop" fmla="*/ 360 h 711000"/>
                  <a:gd name="textAreaBottom" fmla="*/ 710640 h 711000"/>
                </a:gdLst>
                <a:ahLst/>
                <a:rect l="textAreaLeft" t="textAreaTop" r="textAreaRight" b="textAreaBottom"/>
                <a:pathLst>
                  <a:path w="21600" h="23831">
                    <a:moveTo>
                      <a:pt x="53" y="0"/>
                    </a:moveTo>
                    <a:arcTo wR="53" hR="53" stAng="16200000" swAng="-5400000"/>
                    <a:lnTo>
                      <a:pt x="0" y="23778"/>
                    </a:lnTo>
                    <a:arcTo wR="53" hR="53" stAng="10800000" swAng="-5400000"/>
                    <a:lnTo>
                      <a:pt x="21547" y="23831"/>
                    </a:lnTo>
                    <a:arcTo wR="53" hR="53" stAng="5400000" swAng="-5400000"/>
                    <a:lnTo>
                      <a:pt x="21600" y="53"/>
                    </a:lnTo>
                    <a:arcTo wR="53" hR="53" stAng="0" swAng="-5400000"/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88760" y="183996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urnkey &amp; GM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55360" y="1755360"/>
            <a:ext cx="8607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y 16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ian O'Conn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's New?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plication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58520" y="2266560"/>
            <a:ext cx="76899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rd 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ging support (part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ic search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ord Ed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93880" y="1477800"/>
            <a:ext cx="6664320" cy="57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t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809720" y="1428840"/>
            <a:ext cx="6569280" cy="56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9440" y="123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63840" y="1149480"/>
            <a:ext cx="7091280" cy="6099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084320" y="6504120"/>
            <a:ext cx="5600520" cy="871560"/>
          </a:xfrm>
          <a:prstGeom prst="roundRect">
            <a:avLst>
              <a:gd name="adj" fmla="val 181"/>
            </a:avLst>
          </a:prstGeom>
          <a:noFill/>
          <a:ln w="367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39440" y="194760"/>
            <a:ext cx="86072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ic Search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96880" y="1214280"/>
            <a:ext cx="7161480" cy="6159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660760" y="2101680"/>
            <a:ext cx="5600520" cy="871560"/>
          </a:xfrm>
          <a:prstGeom prst="roundRect">
            <a:avLst>
              <a:gd name="adj" fmla="val 181"/>
            </a:avLst>
          </a:prstGeom>
          <a:noFill/>
          <a:ln w="367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440" y="194760"/>
            <a:ext cx="86072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ic Search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398600" y="1149480"/>
            <a:ext cx="7157880" cy="61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440" y="194760"/>
            <a:ext cx="86072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ic Search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73120" y="1266840"/>
            <a:ext cx="9193320" cy="59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mo in GMOD-Web-S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03480" y="1955880"/>
            <a:ext cx="6029280" cy="50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's New?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stallation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50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_perl 2 on FC2 for alpha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rtual hosts are not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asy multiple inst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mo applications &amp; build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ne/W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stomized apps in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cumentation at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turnkey.sf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PM-based 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9440" y="447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urnkey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2237760"/>
            <a:ext cx="2127240" cy="1020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urn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78000" y="4917240"/>
            <a:ext cx="2658960" cy="102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GM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040" y="4089240"/>
            <a:ext cx="8901000" cy="3005280"/>
          </a:xfrm>
          <a:prstGeom prst="roundRect">
            <a:avLst>
              <a:gd name="adj" fmla="val 51"/>
            </a:avLst>
          </a:prstGeom>
          <a:noFill/>
          <a:ln w="367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200" y="3567240"/>
            <a:ext cx="27349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urnkey-based A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6651720"/>
            <a:ext cx="6122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* each turnkey application has one or more “ski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381120" y="3941640"/>
            <a:ext cx="725400" cy="936720"/>
          </a:xfrm>
          <a:prstGeom prst="line">
            <a:avLst/>
          </a:prstGeom>
          <a:ln w="91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02440" y="4923720"/>
            <a:ext cx="2403360" cy="1020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urn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7440" y="3892680"/>
            <a:ext cx="820800" cy="968400"/>
          </a:xfrm>
          <a:prstGeom prst="line">
            <a:avLst/>
          </a:prstGeom>
          <a:ln w="91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6880" y="62712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8720" y="1906560"/>
            <a:ext cx="8607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verview of “active code genera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vious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stomization through sk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gration with other GMOD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rrent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w application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w installation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xt Step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urnkey Application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d a schema file t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lt;cvsroot&gt;/turnkey/schem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both data and schema fi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ke a dir in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lt;cvsroot&gt;/turnkey/demo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your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n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lt;cvsroot&gt;/turnkey/scripts/turnkey_generat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build your default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urnkey Application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 startAt="4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ify the default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 startAt="4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rge the changes back into th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lt;cvsroot&gt;/turnkey/demo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 startAt="4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e... check into cv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200" y="5468760"/>
            <a:ext cx="90244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documentation will follow at http://turnkey.sf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urnkey Application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531800" y="2354400"/>
            <a:ext cx="4040280" cy="40989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911920" y="2611440"/>
            <a:ext cx="2571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stomized files for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MOD-Web A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038480" y="3022560"/>
            <a:ext cx="1825920" cy="525600"/>
          </a:xfrm>
          <a:prstGeom prst="line">
            <a:avLst/>
          </a:prstGeom>
          <a:ln w="36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43680" y="3892680"/>
            <a:ext cx="3588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SS customization live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727080" y="4105440"/>
            <a:ext cx="2252520" cy="672840"/>
          </a:xfrm>
          <a:prstGeom prst="line">
            <a:avLst/>
          </a:prstGeom>
          <a:ln w="36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43680" y="5994360"/>
            <a:ext cx="3571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T2 customization live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4349880" y="5762520"/>
            <a:ext cx="1498320" cy="463680"/>
          </a:xfrm>
          <a:prstGeom prst="line">
            <a:avLst/>
          </a:prstGeom>
          <a:ln w="36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urnkey Application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31800" y="2354400"/>
            <a:ext cx="4040280" cy="4098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911920" y="2611440"/>
            <a:ext cx="2571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Times New Roman"/>
              </a:rPr>
              <a:t>Customized files for </a:t>
            </a:r>
            <a:br>
              <a:rPr sz="2400"/>
            </a:br>
            <a:r>
              <a:rPr b="0" lang="en-GB" sz="2400" spc="-1" strike="noStrike">
                <a:solidFill>
                  <a:srgbClr val="b3b3b3"/>
                </a:solidFill>
                <a:latin typeface="Times New Roman"/>
              </a:rPr>
              <a:t>GMOD-Web A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38480" y="3022560"/>
            <a:ext cx="1825920" cy="525600"/>
          </a:xfrm>
          <a:prstGeom prst="line">
            <a:avLst/>
          </a:prstGeom>
          <a:ln w="367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43680" y="3892680"/>
            <a:ext cx="3588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Times New Roman"/>
              </a:rPr>
              <a:t>CSS customization live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27080" y="4105440"/>
            <a:ext cx="2252520" cy="672840"/>
          </a:xfrm>
          <a:prstGeom prst="line">
            <a:avLst/>
          </a:prstGeom>
          <a:ln w="367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43680" y="5994360"/>
            <a:ext cx="3571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3b3b3"/>
                </a:solidFill>
                <a:latin typeface="Times New Roman"/>
              </a:rPr>
              <a:t>TT2 customization live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4349880" y="5762520"/>
            <a:ext cx="1498320" cy="463680"/>
          </a:xfrm>
          <a:prstGeom prst="line">
            <a:avLst/>
          </a:prstGeom>
          <a:ln w="367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317920" y="5057640"/>
            <a:ext cx="709560" cy="196920"/>
          </a:xfrm>
          <a:prstGeom prst="line">
            <a:avLst/>
          </a:prstGeom>
          <a:ln w="36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73720" y="4664160"/>
            <a:ext cx="3309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ynamic skins live in thei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n di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67720" y="5451480"/>
            <a:ext cx="1918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?skin=f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17760" y="6323040"/>
            <a:ext cx="360360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ttp://turnkey.sf.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638440" y="1974960"/>
            <a:ext cx="4913280" cy="40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stall Prerequi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stalla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stomization (“skin”) gu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his gets a lot easier with alpha 3 (RP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tallati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can be done manually or via RP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13320" y="3772440"/>
            <a:ext cx="2973240" cy="961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key/GMOD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76960" y="3216960"/>
            <a:ext cx="2200320" cy="480600"/>
          </a:xfrm>
          <a:prstGeom prst="ellipse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do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8560" y="5749200"/>
            <a:ext cx="2200320" cy="480600"/>
          </a:xfrm>
          <a:prstGeom prst="ellipse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QLFai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08200" y="5536800"/>
            <a:ext cx="2200320" cy="961560"/>
          </a:xfrm>
          <a:prstGeom prst="ellipse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l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960" y="3474720"/>
            <a:ext cx="2200320" cy="961560"/>
          </a:xfrm>
          <a:prstGeom prst="ellipse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ache/mod_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2987640" y="4070520"/>
            <a:ext cx="627120" cy="85680"/>
          </a:xfrm>
          <a:prstGeom prst="line">
            <a:avLst/>
          </a:prstGeom>
          <a:ln w="54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609720" y="5140440"/>
            <a:ext cx="546120" cy="411120"/>
          </a:xfrm>
          <a:prstGeom prst="line">
            <a:avLst/>
          </a:prstGeom>
          <a:ln w="54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7120" y="5041800"/>
            <a:ext cx="557280" cy="426960"/>
          </a:xfrm>
          <a:prstGeom prst="line">
            <a:avLst/>
          </a:prstGeom>
          <a:ln w="54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651720" y="3693600"/>
            <a:ext cx="525240" cy="249480"/>
          </a:xfrm>
          <a:prstGeom prst="line">
            <a:avLst/>
          </a:prstGeom>
          <a:ln w="54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PM-Based Inst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440" y="1777680"/>
            <a:ext cx="8607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ared to old styl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847880" y="2624040"/>
            <a:ext cx="743904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9440" y="303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PM-Based Inst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39440" y="1561680"/>
            <a:ext cx="8607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ne demo install from R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264200" y="3106800"/>
            <a:ext cx="4971960" cy="4118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709720" y="2332080"/>
            <a:ext cx="554796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&gt; yum install gmod-web-S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9440" y="519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60724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pha Phase – 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roved p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rovements modeling complex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pha 3 this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ta Phase – Stability &amp; 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and docs on skinning and turnke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lication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ilds for more platforms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ease - s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urnkey i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website auto-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43160" y="4074120"/>
            <a:ext cx="2151000" cy="1390680"/>
          </a:xfrm>
          <a:prstGeom prst="roundRect">
            <a:avLst>
              <a:gd name="adj" fmla="val 93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Cre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fo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49920" y="3206880"/>
            <a:ext cx="3581280" cy="3189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41920" y="4859280"/>
            <a:ext cx="1485720" cy="1800"/>
          </a:xfrm>
          <a:prstGeom prst="line">
            <a:avLst/>
          </a:prstGeom>
          <a:ln w="164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71880" y="4133880"/>
            <a:ext cx="1197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39440" y="411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ttp://turnkey.sf.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33360" y="1967040"/>
            <a:ext cx="5645160" cy="47656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240960" y="2085840"/>
            <a:ext cx="342828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cknowledg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86480" y="2989440"/>
            <a:ext cx="326880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en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ott C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nda Sperling et 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n Nel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MOD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w a Web Page is Rend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155600" y="2759040"/>
            <a:ext cx="2063880" cy="2136960"/>
            <a:chOff x="1155600" y="2759040"/>
            <a:chExt cx="2063880" cy="2136960"/>
          </a:xfrm>
        </p:grpSpPr>
        <p:sp>
          <p:nvSpPr>
            <p:cNvPr id="229" name=""/>
            <p:cNvSpPr/>
            <p:nvPr/>
          </p:nvSpPr>
          <p:spPr>
            <a:xfrm>
              <a:off x="1155600" y="2759040"/>
              <a:ext cx="2063880" cy="2136960"/>
            </a:xfrm>
            <a:custGeom>
              <a:avLst/>
              <a:gdLst>
                <a:gd name="textAreaLeft" fmla="*/ 360 w 2063880"/>
                <a:gd name="textAreaRight" fmla="*/ 2063520 w 2063880"/>
                <a:gd name="textAreaTop" fmla="*/ 360 h 2136960"/>
                <a:gd name="textAreaBottom" fmla="*/ 2136600 h 2136960"/>
              </a:gdLst>
              <a:ahLst/>
              <a:rect l="textAreaLeft" t="textAreaTop" r="textAreaRight" b="textAreaBottom"/>
              <a:pathLst>
                <a:path w="21600" h="22365">
                  <a:moveTo>
                    <a:pt x="16" y="0"/>
                  </a:moveTo>
                  <a:arcTo wR="16" hR="16" stAng="16200000" swAng="-5400000"/>
                  <a:lnTo>
                    <a:pt x="0" y="22349"/>
                  </a:lnTo>
                  <a:arcTo wR="16" hR="16" stAng="10800000" swAng="-5400000"/>
                  <a:lnTo>
                    <a:pt x="21584" y="22365"/>
                  </a:lnTo>
                  <a:arcTo wR="16" hR="16" stAng="5400000" swAng="-5400000"/>
                  <a:lnTo>
                    <a:pt x="21600" y="16"/>
                  </a:lnTo>
                  <a:arcTo wR="16" hR="16" stAng="0" swAng="-5400000"/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25520" y="3908520"/>
              <a:ext cx="461880" cy="750960"/>
            </a:xfrm>
            <a:custGeom>
              <a:avLst/>
              <a:gdLst>
                <a:gd name="textAreaLeft" fmla="*/ 360 w 461880"/>
                <a:gd name="textAreaRight" fmla="*/ 461520 w 461880"/>
                <a:gd name="textAreaTop" fmla="*/ 360 h 750960"/>
                <a:gd name="textAreaBottom" fmla="*/ 750600 h 750960"/>
              </a:gdLst>
              <a:ahLst/>
              <a:rect l="textAreaLeft" t="textAreaTop" r="textAreaRight" b="textAreaBottom"/>
              <a:pathLst>
                <a:path w="21600" h="35108">
                  <a:moveTo>
                    <a:pt x="74" y="0"/>
                  </a:moveTo>
                  <a:arcTo wR="74" hR="74" stAng="16200000" swAng="-5400000"/>
                  <a:lnTo>
                    <a:pt x="0" y="35034"/>
                  </a:lnTo>
                  <a:arcTo wR="74" hR="74" stAng="10800000" swAng="-5400000"/>
                  <a:lnTo>
                    <a:pt x="21526" y="35108"/>
                  </a:lnTo>
                  <a:arcTo wR="74" hR="74" stAng="5400000" swAng="-5400000"/>
                  <a:lnTo>
                    <a:pt x="21600" y="74"/>
                  </a:lnTo>
                  <a:arcTo wR="74" hR="74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39920" y="2998800"/>
              <a:ext cx="461880" cy="750960"/>
            </a:xfrm>
            <a:custGeom>
              <a:avLst/>
              <a:gdLst>
                <a:gd name="textAreaLeft" fmla="*/ 360 w 461880"/>
                <a:gd name="textAreaRight" fmla="*/ 461520 w 461880"/>
                <a:gd name="textAreaTop" fmla="*/ 360 h 750960"/>
                <a:gd name="textAreaBottom" fmla="*/ 750600 h 750960"/>
              </a:gdLst>
              <a:ahLst/>
              <a:rect l="textAreaLeft" t="textAreaTop" r="textAreaRight" b="textAreaBottom"/>
              <a:pathLst>
                <a:path w="21600" h="35108">
                  <a:moveTo>
                    <a:pt x="74" y="0"/>
                  </a:moveTo>
                  <a:arcTo wR="74" hR="74" stAng="16200000" swAng="-5400000"/>
                  <a:lnTo>
                    <a:pt x="0" y="35034"/>
                  </a:lnTo>
                  <a:arcTo wR="74" hR="74" stAng="10800000" swAng="-5400000"/>
                  <a:lnTo>
                    <a:pt x="21526" y="35108"/>
                  </a:lnTo>
                  <a:arcTo wR="74" hR="74" stAng="5400000" swAng="-5400000"/>
                  <a:lnTo>
                    <a:pt x="21600" y="74"/>
                  </a:lnTo>
                  <a:arcTo wR="74" hR="74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32120" y="3013200"/>
              <a:ext cx="1100160" cy="1650960"/>
            </a:xfrm>
            <a:custGeom>
              <a:avLst/>
              <a:gdLst>
                <a:gd name="textAreaLeft" fmla="*/ 360 w 1100160"/>
                <a:gd name="textAreaRight" fmla="*/ 1099800 w 1100160"/>
                <a:gd name="textAreaTop" fmla="*/ 360 h 1650960"/>
                <a:gd name="textAreaBottom" fmla="*/ 1650600 h 1650960"/>
              </a:gdLst>
              <a:ahLst/>
              <a:rect l="textAreaLeft" t="textAreaTop" r="textAreaRight" b="textAreaBottom"/>
              <a:pathLst>
                <a:path w="21600" h="32411">
                  <a:moveTo>
                    <a:pt x="31" y="0"/>
                  </a:moveTo>
                  <a:arcTo wR="31" hR="31" stAng="16200000" swAng="-5400000"/>
                  <a:lnTo>
                    <a:pt x="0" y="32380"/>
                  </a:lnTo>
                  <a:arcTo wR="31" hR="31" stAng="10800000" swAng="-5400000"/>
                  <a:lnTo>
                    <a:pt x="21569" y="32411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8281080" y="4416480"/>
            <a:ext cx="1533960" cy="1031760"/>
            <a:chOff x="8281080" y="4416480"/>
            <a:chExt cx="1533960" cy="1031760"/>
          </a:xfrm>
        </p:grpSpPr>
        <p:grpSp>
          <p:nvGrpSpPr>
            <p:cNvPr id="234" name=""/>
            <p:cNvGrpSpPr/>
            <p:nvPr/>
          </p:nvGrpSpPr>
          <p:grpSpPr>
            <a:xfrm>
              <a:off x="8434440" y="4416480"/>
              <a:ext cx="1236600" cy="1031760"/>
              <a:chOff x="8434440" y="4416480"/>
              <a:chExt cx="1236600" cy="1031760"/>
            </a:xfrm>
          </p:grpSpPr>
          <p:sp>
            <p:nvSpPr>
              <p:cNvPr id="235" name=""/>
              <p:cNvSpPr/>
              <p:nvPr/>
            </p:nvSpPr>
            <p:spPr>
              <a:xfrm>
                <a:off x="8434440" y="4416480"/>
                <a:ext cx="1236600" cy="1031760"/>
              </a:xfrm>
              <a:custGeom>
                <a:avLst/>
                <a:gdLst/>
                <a:ahLst/>
                <a:rect l="l" t="t" r="r" b="b"/>
                <a:pathLst>
                  <a:path w="3437" h="2866">
                    <a:moveTo>
                      <a:pt x="1718" y="0"/>
                    </a:moveTo>
                    <a:cubicBezTo>
                      <a:pt x="780" y="0"/>
                      <a:pt x="0" y="163"/>
                      <a:pt x="0" y="357"/>
                    </a:cubicBezTo>
                    <a:lnTo>
                      <a:pt x="0" y="2508"/>
                    </a:lnTo>
                    <a:cubicBezTo>
                      <a:pt x="0" y="2702"/>
                      <a:pt x="780" y="2865"/>
                      <a:pt x="1718" y="2865"/>
                    </a:cubicBezTo>
                    <a:cubicBezTo>
                      <a:pt x="2656" y="2865"/>
                      <a:pt x="3436" y="2702"/>
                      <a:pt x="3436" y="2508"/>
                    </a:cubicBezTo>
                    <a:lnTo>
                      <a:pt x="3436" y="357"/>
                    </a:lnTo>
                    <a:cubicBezTo>
                      <a:pt x="3436" y="163"/>
                      <a:pt x="2655" y="0"/>
                      <a:pt x="1718" y="0"/>
                    </a:cubicBezTo>
                  </a:path>
                </a:pathLst>
              </a:custGeom>
              <a:solidFill>
                <a:srgbClr val="ffcc00"/>
              </a:solidFill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434440" y="4416480"/>
                <a:ext cx="1236600" cy="258840"/>
              </a:xfrm>
              <a:custGeom>
                <a:avLst/>
                <a:gdLst/>
                <a:ahLst/>
                <a:rect l="l" t="t" r="r" b="b"/>
                <a:pathLst>
                  <a:path w="3437" h="717">
                    <a:moveTo>
                      <a:pt x="1718" y="0"/>
                    </a:moveTo>
                    <a:cubicBezTo>
                      <a:pt x="780" y="0"/>
                      <a:pt x="0" y="163"/>
                      <a:pt x="0" y="357"/>
                    </a:cubicBezTo>
                    <a:cubicBezTo>
                      <a:pt x="0" y="551"/>
                      <a:pt x="780" y="716"/>
                      <a:pt x="1718" y="716"/>
                    </a:cubicBezTo>
                    <a:cubicBezTo>
                      <a:pt x="2656" y="716"/>
                      <a:pt x="3436" y="554"/>
                      <a:pt x="3436" y="357"/>
                    </a:cubicBezTo>
                    <a:cubicBezTo>
                      <a:pt x="3436" y="160"/>
                      <a:pt x="2655" y="0"/>
                      <a:pt x="1718" y="0"/>
                    </a:cubicBezTo>
                  </a:path>
                </a:pathLst>
              </a:custGeom>
              <a:solidFill>
                <a:srgbClr val="ffdf00"/>
              </a:solidFill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8281080" y="4779720"/>
              <a:ext cx="15339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7081920" y="2873520"/>
            <a:ext cx="1365120" cy="13716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25480" y="2211480"/>
            <a:ext cx="2798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mplate Toolkit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2400" y="2211480"/>
            <a:ext cx="1890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om Rend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73080" y="2954160"/>
            <a:ext cx="1195560" cy="1760760"/>
          </a:xfrm>
          <a:custGeom>
            <a:avLst/>
            <a:gdLst>
              <a:gd name="textAreaLeft" fmla="*/ 360 w 1195560"/>
              <a:gd name="textAreaRight" fmla="*/ 1195200 w 1195560"/>
              <a:gd name="textAreaTop" fmla="*/ 360 h 1760760"/>
              <a:gd name="textAreaBottom" fmla="*/ 1760400 h 1760760"/>
            </a:gdLst>
            <a:ahLst/>
            <a:rect l="textAreaLeft" t="textAreaTop" r="textAreaRight" b="textAreaBottom"/>
            <a:pathLst>
              <a:path w="21600" h="31808">
                <a:moveTo>
                  <a:pt x="28" y="0"/>
                </a:moveTo>
                <a:arcTo wR="28" hR="28" stAng="16200000" swAng="-5400000"/>
                <a:lnTo>
                  <a:pt x="0" y="31780"/>
                </a:lnTo>
                <a:arcTo wR="28" hR="28" stAng="10800000" swAng="-5400000"/>
                <a:lnTo>
                  <a:pt x="21572" y="31808"/>
                </a:lnTo>
                <a:arcTo wR="28" hR="28" stAng="5400000" swAng="-5400000"/>
                <a:lnTo>
                  <a:pt x="21600" y="28"/>
                </a:lnTo>
                <a:arcTo wR="28" hR="28" stAng="0" swAng="-5400000"/>
                <a:close/>
              </a:path>
            </a:pathLst>
          </a:custGeom>
          <a:noFill/>
          <a:ln w="367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533760" y="3632040"/>
            <a:ext cx="858960" cy="1800"/>
          </a:xfrm>
          <a:prstGeom prst="line">
            <a:avLst/>
          </a:prstGeom>
          <a:ln w="146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72200" y="2228760"/>
            <a:ext cx="13129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B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972040" y="3632040"/>
            <a:ext cx="858960" cy="1800"/>
          </a:xfrm>
          <a:prstGeom prst="line">
            <a:avLst/>
          </a:prstGeom>
          <a:ln w="146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600680" y="4228920"/>
            <a:ext cx="439560" cy="631800"/>
          </a:xfrm>
          <a:prstGeom prst="line">
            <a:avLst/>
          </a:prstGeom>
          <a:ln w="146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8880" y="5230800"/>
            <a:ext cx="8250120" cy="16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p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element name=”A” renderer=”Atom::A” focus=”mino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element name=”B” renderer=”Atom::B” focus=”mino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element name=”C” renderer=”Atom::C” focus=”majo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/p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9360" y="3201840"/>
            <a:ext cx="220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77800" y="4086360"/>
            <a:ext cx="203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0680" y="3641760"/>
            <a:ext cx="602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.t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53280" y="4165560"/>
            <a:ext cx="1069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om::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44160" y="3681360"/>
            <a:ext cx="1171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::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959680" y="4875120"/>
            <a:ext cx="355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67400" y="3030480"/>
            <a:ext cx="909360" cy="909720"/>
          </a:xfrm>
          <a:prstGeom prst="ellipse">
            <a:avLst/>
          </a:prstGeom>
          <a:solidFill>
            <a:srgbClr val="99ccff"/>
          </a:solidFill>
          <a:ln w="5400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8800" y="4257720"/>
            <a:ext cx="9309240" cy="3002040"/>
          </a:xfrm>
          <a:prstGeom prst="roundRect">
            <a:avLst>
              <a:gd name="adj" fmla="val 51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tive Code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3800" y="2378880"/>
            <a:ext cx="2151000" cy="1390680"/>
          </a:xfrm>
          <a:prstGeom prst="roundRect">
            <a:avLst>
              <a:gd name="adj" fmla="val 93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Cre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fo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02040" y="3146400"/>
            <a:ext cx="11397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218120" y="2513160"/>
            <a:ext cx="1365120" cy="1371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56920" y="2268360"/>
            <a:ext cx="21193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QL::Trans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56000" y="2195640"/>
            <a:ext cx="20203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rected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711840" y="2668680"/>
            <a:ext cx="2743200" cy="1217520"/>
            <a:chOff x="6711840" y="2668680"/>
            <a:chExt cx="2743200" cy="1217520"/>
          </a:xfrm>
        </p:grpSpPr>
        <p:sp>
          <p:nvSpPr>
            <p:cNvPr id="80" name=""/>
            <p:cNvSpPr/>
            <p:nvPr/>
          </p:nvSpPr>
          <p:spPr>
            <a:xfrm>
              <a:off x="823608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ffff99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997840" y="342900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99784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7396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73960" y="342900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99ff"/>
            </a:solidFill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1184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2" idx="2"/>
              <a:endCxn id="81" idx="0"/>
            </p:cNvCxnSpPr>
            <p:nvPr/>
          </p:nvCxnSpPr>
          <p:spPr>
            <a:xfrm>
              <a:off x="9226080" y="3125880"/>
              <a:ext cx="2520" cy="305280"/>
            </a:xfrm>
            <a:prstGeom prst="straightConnector1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cxnSp>
          <p:nvCxnSpPr>
            <p:cNvPr id="87" name=""/>
            <p:cNvCxnSpPr>
              <a:stCxn id="82" idx="1"/>
              <a:endCxn id="80" idx="3"/>
            </p:cNvCxnSpPr>
            <p:nvPr/>
          </p:nvCxnSpPr>
          <p:spPr>
            <a:xfrm flipH="1">
              <a:off x="8692920" y="2897280"/>
              <a:ext cx="305280" cy="2160"/>
            </a:xfrm>
            <a:prstGeom prst="straightConnector1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3"/>
              <a:endCxn id="80" idx="1"/>
            </p:cNvCxnSpPr>
            <p:nvPr/>
          </p:nvCxnSpPr>
          <p:spPr>
            <a:xfrm>
              <a:off x="7930800" y="2897280"/>
              <a:ext cx="305640" cy="2160"/>
            </a:xfrm>
            <a:prstGeom prst="straightConnector1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/>
            <p:nvPr/>
          </p:nvCxnSpPr>
          <p:spPr>
            <a:xfrm>
              <a:off x="7550280" y="3138120"/>
              <a:ext cx="2160" cy="292680"/>
            </a:xfrm>
            <a:prstGeom prst="straightConnector1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/>
            <p:nvPr/>
          </p:nvCxnSpPr>
          <p:spPr>
            <a:xfrm>
              <a:off x="7854480" y="3125880"/>
              <a:ext cx="2520" cy="305280"/>
            </a:xfrm>
            <a:prstGeom prst="straightConnector1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/>
            <p:nvPr/>
          </p:nvCxnSpPr>
          <p:spPr>
            <a:xfrm>
              <a:off x="7702560" y="3125880"/>
              <a:ext cx="2160" cy="305280"/>
            </a:xfrm>
            <a:prstGeom prst="straightConnector1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cxnSp>
          <p:nvCxnSpPr>
            <p:cNvPr id="92" name=""/>
            <p:cNvCxnSpPr/>
            <p:nvPr/>
          </p:nvCxnSpPr>
          <p:spPr>
            <a:xfrm flipH="1">
              <a:off x="7168680" y="2820960"/>
              <a:ext cx="280080" cy="2160"/>
            </a:xfrm>
            <a:prstGeom prst="straightConnector1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  <p:cxnSp>
          <p:nvCxnSpPr>
            <p:cNvPr id="93" name=""/>
            <p:cNvCxnSpPr/>
            <p:nvPr/>
          </p:nvCxnSpPr>
          <p:spPr>
            <a:xfrm flipH="1">
              <a:off x="7168680" y="2972880"/>
              <a:ext cx="280080" cy="2520"/>
            </a:xfrm>
            <a:prstGeom prst="straightConnector1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</p:cxnSp>
      </p:grpSp>
      <p:sp>
        <p:nvSpPr>
          <p:cNvPr id="94" name=""/>
          <p:cNvSpPr/>
          <p:nvPr/>
        </p:nvSpPr>
        <p:spPr>
          <a:xfrm>
            <a:off x="5521320" y="3152880"/>
            <a:ext cx="11397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173040" y="3449520"/>
            <a:ext cx="3971880" cy="12128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24120" y="3824280"/>
            <a:ext cx="1808280" cy="95256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83320" y="4046400"/>
            <a:ext cx="655920" cy="7448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09720" y="4791240"/>
            <a:ext cx="2063520" cy="2136600"/>
            <a:chOff x="909720" y="4791240"/>
            <a:chExt cx="2063520" cy="2136600"/>
          </a:xfrm>
        </p:grpSpPr>
        <p:sp>
          <p:nvSpPr>
            <p:cNvPr id="99" name=""/>
            <p:cNvSpPr/>
            <p:nvPr/>
          </p:nvSpPr>
          <p:spPr>
            <a:xfrm>
              <a:off x="909720" y="4791240"/>
              <a:ext cx="2063520" cy="2136600"/>
            </a:xfrm>
            <a:custGeom>
              <a:avLst/>
              <a:gdLst>
                <a:gd name="textAreaLeft" fmla="*/ 360 w 2063520"/>
                <a:gd name="textAreaRight" fmla="*/ 2063160 w 2063520"/>
                <a:gd name="textAreaTop" fmla="*/ 360 h 2136600"/>
                <a:gd name="textAreaBottom" fmla="*/ 2136240 h 2136600"/>
              </a:gdLst>
              <a:ahLst/>
              <a:rect l="textAreaLeft" t="textAreaTop" r="textAreaRight" b="textAreaBottom"/>
              <a:pathLst>
                <a:path w="21600" h="22365">
                  <a:moveTo>
                    <a:pt x="16" y="0"/>
                  </a:moveTo>
                  <a:arcTo wR="16" hR="16" stAng="16200000" swAng="-5400000"/>
                  <a:lnTo>
                    <a:pt x="0" y="22349"/>
                  </a:lnTo>
                  <a:arcTo wR="16" hR="16" stAng="10800000" swAng="-5400000"/>
                  <a:lnTo>
                    <a:pt x="21584" y="22365"/>
                  </a:lnTo>
                  <a:arcTo wR="16" hR="16" stAng="5400000" swAng="-5400000"/>
                  <a:lnTo>
                    <a:pt x="21600" y="16"/>
                  </a:lnTo>
                  <a:arcTo wR="16" hR="16" stAng="0" swAng="-5400000"/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79640" y="5940360"/>
              <a:ext cx="461880" cy="750960"/>
            </a:xfrm>
            <a:custGeom>
              <a:avLst/>
              <a:gdLst>
                <a:gd name="textAreaLeft" fmla="*/ 360 w 461880"/>
                <a:gd name="textAreaRight" fmla="*/ 461520 w 461880"/>
                <a:gd name="textAreaTop" fmla="*/ 360 h 750960"/>
                <a:gd name="textAreaBottom" fmla="*/ 750600 h 750960"/>
              </a:gdLst>
              <a:ahLst/>
              <a:rect l="textAreaLeft" t="textAreaTop" r="textAreaRight" b="textAreaBottom"/>
              <a:pathLst>
                <a:path w="21600" h="35108">
                  <a:moveTo>
                    <a:pt x="74" y="0"/>
                  </a:moveTo>
                  <a:arcTo wR="74" hR="74" stAng="16200000" swAng="-5400000"/>
                  <a:lnTo>
                    <a:pt x="0" y="35034"/>
                  </a:lnTo>
                  <a:arcTo wR="74" hR="74" stAng="10800000" swAng="-5400000"/>
                  <a:lnTo>
                    <a:pt x="21526" y="35108"/>
                  </a:lnTo>
                  <a:arcTo wR="74" hR="74" stAng="5400000" swAng="-5400000"/>
                  <a:lnTo>
                    <a:pt x="21600" y="74"/>
                  </a:lnTo>
                  <a:arcTo wR="74" hR="74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5480" y="5030640"/>
              <a:ext cx="461880" cy="750960"/>
            </a:xfrm>
            <a:custGeom>
              <a:avLst/>
              <a:gdLst>
                <a:gd name="textAreaLeft" fmla="*/ 360 w 461880"/>
                <a:gd name="textAreaRight" fmla="*/ 461520 w 461880"/>
                <a:gd name="textAreaTop" fmla="*/ 360 h 750960"/>
                <a:gd name="textAreaBottom" fmla="*/ 750600 h 750960"/>
              </a:gdLst>
              <a:ahLst/>
              <a:rect l="textAreaLeft" t="textAreaTop" r="textAreaRight" b="textAreaBottom"/>
              <a:pathLst>
                <a:path w="21600" h="35108">
                  <a:moveTo>
                    <a:pt x="74" y="0"/>
                  </a:moveTo>
                  <a:arcTo wR="74" hR="74" stAng="16200000" swAng="-5400000"/>
                  <a:lnTo>
                    <a:pt x="0" y="35034"/>
                  </a:lnTo>
                  <a:arcTo wR="74" hR="74" stAng="10800000" swAng="-5400000"/>
                  <a:lnTo>
                    <a:pt x="21526" y="35108"/>
                  </a:lnTo>
                  <a:arcTo wR="74" hR="74" stAng="5400000" swAng="-5400000"/>
                  <a:lnTo>
                    <a:pt x="21600" y="74"/>
                  </a:lnTo>
                  <a:arcTo wR="74" hR="74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85880" y="5045040"/>
              <a:ext cx="1100160" cy="1650960"/>
            </a:xfrm>
            <a:custGeom>
              <a:avLst/>
              <a:gdLst>
                <a:gd name="textAreaLeft" fmla="*/ 360 w 1100160"/>
                <a:gd name="textAreaRight" fmla="*/ 1099800 w 1100160"/>
                <a:gd name="textAreaTop" fmla="*/ 360 h 1650960"/>
                <a:gd name="textAreaBottom" fmla="*/ 1650600 h 1650960"/>
              </a:gdLst>
              <a:ahLst/>
              <a:rect l="textAreaLeft" t="textAreaTop" r="textAreaRight" b="textAreaBottom"/>
              <a:pathLst>
                <a:path w="21600" h="32411">
                  <a:moveTo>
                    <a:pt x="31" y="0"/>
                  </a:moveTo>
                  <a:arcTo wR="31" hR="31" stAng="16200000" swAng="-5400000"/>
                  <a:lnTo>
                    <a:pt x="0" y="32380"/>
                  </a:lnTo>
                  <a:arcTo wR="31" hR="31" stAng="10800000" swAng="-5400000"/>
                  <a:lnTo>
                    <a:pt x="21569" y="32411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4260960" y="5587920"/>
            <a:ext cx="1365120" cy="1371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133880" y="5213520"/>
            <a:ext cx="1976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pping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26440" y="4187880"/>
            <a:ext cx="1694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amp;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39960" y="1778040"/>
            <a:ext cx="17488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QL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392960" y="5132520"/>
            <a:ext cx="1650960" cy="1376280"/>
            <a:chOff x="7392960" y="5132520"/>
            <a:chExt cx="1650960" cy="1376280"/>
          </a:xfrm>
        </p:grpSpPr>
        <p:grpSp>
          <p:nvGrpSpPr>
            <p:cNvPr id="108" name=""/>
            <p:cNvGrpSpPr/>
            <p:nvPr/>
          </p:nvGrpSpPr>
          <p:grpSpPr>
            <a:xfrm>
              <a:off x="7392960" y="5132520"/>
              <a:ext cx="1650960" cy="1376280"/>
              <a:chOff x="7392960" y="5132520"/>
              <a:chExt cx="1650960" cy="1376280"/>
            </a:xfrm>
          </p:grpSpPr>
          <p:sp>
            <p:nvSpPr>
              <p:cNvPr id="109" name=""/>
              <p:cNvSpPr/>
              <p:nvPr/>
            </p:nvSpPr>
            <p:spPr>
              <a:xfrm>
                <a:off x="7392960" y="5132520"/>
                <a:ext cx="1650960" cy="1376280"/>
              </a:xfrm>
              <a:custGeom>
                <a:avLst/>
                <a:gdLst/>
                <a:ahLst/>
                <a:rect l="l" t="t" r="r" b="b"/>
                <a:pathLst>
                  <a:path w="4584" h="3822">
                    <a:moveTo>
                      <a:pt x="2290" y="0"/>
                    </a:moveTo>
                    <a:cubicBezTo>
                      <a:pt x="1041" y="0"/>
                      <a:pt x="0" y="217"/>
                      <a:pt x="0" y="476"/>
                    </a:cubicBezTo>
                    <a:lnTo>
                      <a:pt x="0" y="3345"/>
                    </a:lnTo>
                    <a:cubicBezTo>
                      <a:pt x="0" y="3604"/>
                      <a:pt x="1041" y="3821"/>
                      <a:pt x="2290" y="3821"/>
                    </a:cubicBezTo>
                    <a:cubicBezTo>
                      <a:pt x="3539" y="3821"/>
                      <a:pt x="4583" y="3604"/>
                      <a:pt x="4583" y="3345"/>
                    </a:cubicBezTo>
                    <a:lnTo>
                      <a:pt x="4583" y="476"/>
                    </a:lnTo>
                    <a:cubicBezTo>
                      <a:pt x="4583" y="217"/>
                      <a:pt x="3541" y="0"/>
                      <a:pt x="2290" y="0"/>
                    </a:cubicBezTo>
                  </a:path>
                </a:pathLst>
              </a:custGeom>
              <a:solidFill>
                <a:srgbClr val="ffcc00"/>
              </a:solidFill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92960" y="5132520"/>
                <a:ext cx="1650960" cy="344520"/>
              </a:xfrm>
              <a:custGeom>
                <a:avLst/>
                <a:gdLst/>
                <a:ahLst/>
                <a:rect l="l" t="t" r="r" b="b"/>
                <a:pathLst>
                  <a:path w="4584" h="956">
                    <a:moveTo>
                      <a:pt x="2290" y="0"/>
                    </a:moveTo>
                    <a:cubicBezTo>
                      <a:pt x="1041" y="0"/>
                      <a:pt x="0" y="217"/>
                      <a:pt x="0" y="476"/>
                    </a:cubicBezTo>
                    <a:cubicBezTo>
                      <a:pt x="0" y="735"/>
                      <a:pt x="1041" y="955"/>
                      <a:pt x="2290" y="955"/>
                    </a:cubicBezTo>
                    <a:cubicBezTo>
                      <a:pt x="3539" y="955"/>
                      <a:pt x="4583" y="738"/>
                      <a:pt x="4583" y="476"/>
                    </a:cubicBezTo>
                    <a:cubicBezTo>
                      <a:pt x="4583" y="214"/>
                      <a:pt x="3541" y="0"/>
                      <a:pt x="2290" y="0"/>
                    </a:cubicBezTo>
                  </a:path>
                </a:pathLst>
              </a:custGeom>
              <a:solidFill>
                <a:srgbClr val="ffdf00"/>
              </a:solidFill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7560720" y="5520960"/>
              <a:ext cx="129924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bj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93960" y="4487760"/>
            <a:ext cx="2698920" cy="2698920"/>
          </a:xfrm>
          <a:prstGeom prst="ellipse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40360" y="4503600"/>
            <a:ext cx="2698920" cy="2698920"/>
          </a:xfrm>
          <a:prstGeom prst="ellipse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0680" y="4297320"/>
            <a:ext cx="2916000" cy="3262320"/>
          </a:xfrm>
          <a:prstGeom prst="ellipse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9440" y="49860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ata 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440" y="1611000"/>
            <a:ext cx="860724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XML is used to define a layout and represents the relationships between tables in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bout actual data render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urnkey currently uses a MVC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909720" y="4889520"/>
            <a:ext cx="2063520" cy="2136600"/>
            <a:chOff x="909720" y="4889520"/>
            <a:chExt cx="2063520" cy="2136600"/>
          </a:xfrm>
        </p:grpSpPr>
        <p:sp>
          <p:nvSpPr>
            <p:cNvPr id="118" name=""/>
            <p:cNvSpPr/>
            <p:nvPr/>
          </p:nvSpPr>
          <p:spPr>
            <a:xfrm>
              <a:off x="909720" y="4889520"/>
              <a:ext cx="2063520" cy="2136600"/>
            </a:xfrm>
            <a:custGeom>
              <a:avLst/>
              <a:gdLst>
                <a:gd name="textAreaLeft" fmla="*/ 360 w 2063520"/>
                <a:gd name="textAreaRight" fmla="*/ 2063160 w 2063520"/>
                <a:gd name="textAreaTop" fmla="*/ 360 h 2136600"/>
                <a:gd name="textAreaBottom" fmla="*/ 2136240 h 2136600"/>
              </a:gdLst>
              <a:ahLst/>
              <a:rect l="textAreaLeft" t="textAreaTop" r="textAreaRight" b="textAreaBottom"/>
              <a:pathLst>
                <a:path w="21600" h="22365">
                  <a:moveTo>
                    <a:pt x="16" y="0"/>
                  </a:moveTo>
                  <a:arcTo wR="16" hR="16" stAng="16200000" swAng="-5400000"/>
                  <a:lnTo>
                    <a:pt x="0" y="22349"/>
                  </a:lnTo>
                  <a:arcTo wR="16" hR="16" stAng="10800000" swAng="-5400000"/>
                  <a:lnTo>
                    <a:pt x="21584" y="22365"/>
                  </a:lnTo>
                  <a:arcTo wR="16" hR="16" stAng="5400000" swAng="-5400000"/>
                  <a:lnTo>
                    <a:pt x="21600" y="16"/>
                  </a:lnTo>
                  <a:arcTo wR="16" hR="16" stAng="0" swAng="-5400000"/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81080" y="6039000"/>
              <a:ext cx="461880" cy="750600"/>
            </a:xfrm>
            <a:custGeom>
              <a:avLst/>
              <a:gdLst>
                <a:gd name="textAreaLeft" fmla="*/ 360 w 461880"/>
                <a:gd name="textAreaRight" fmla="*/ 461520 w 461880"/>
                <a:gd name="textAreaTop" fmla="*/ 360 h 750600"/>
                <a:gd name="textAreaBottom" fmla="*/ 750240 h 750600"/>
              </a:gdLst>
              <a:ahLst/>
              <a:rect l="textAreaLeft" t="textAreaTop" r="textAreaRight" b="textAreaBottom"/>
              <a:pathLst>
                <a:path w="21600" h="35092">
                  <a:moveTo>
                    <a:pt x="74" y="0"/>
                  </a:moveTo>
                  <a:arcTo wR="74" hR="74" stAng="16200000" swAng="-5400000"/>
                  <a:lnTo>
                    <a:pt x="0" y="35018"/>
                  </a:lnTo>
                  <a:arcTo wR="74" hR="74" stAng="10800000" swAng="-5400000"/>
                  <a:lnTo>
                    <a:pt x="21526" y="35092"/>
                  </a:lnTo>
                  <a:arcTo wR="74" hR="74" stAng="5400000" swAng="-5400000"/>
                  <a:lnTo>
                    <a:pt x="21600" y="74"/>
                  </a:lnTo>
                  <a:arcTo wR="74" hR="74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95480" y="5129280"/>
              <a:ext cx="461880" cy="750960"/>
            </a:xfrm>
            <a:custGeom>
              <a:avLst/>
              <a:gdLst>
                <a:gd name="textAreaLeft" fmla="*/ 360 w 461880"/>
                <a:gd name="textAreaRight" fmla="*/ 461520 w 461880"/>
                <a:gd name="textAreaTop" fmla="*/ 360 h 750960"/>
                <a:gd name="textAreaBottom" fmla="*/ 750600 h 750960"/>
              </a:gdLst>
              <a:ahLst/>
              <a:rect l="textAreaLeft" t="textAreaTop" r="textAreaRight" b="textAreaBottom"/>
              <a:pathLst>
                <a:path w="21600" h="35108">
                  <a:moveTo>
                    <a:pt x="74" y="0"/>
                  </a:moveTo>
                  <a:arcTo wR="74" hR="74" stAng="16200000" swAng="-5400000"/>
                  <a:lnTo>
                    <a:pt x="0" y="35034"/>
                  </a:lnTo>
                  <a:arcTo wR="74" hR="74" stAng="10800000" swAng="-5400000"/>
                  <a:lnTo>
                    <a:pt x="21526" y="35108"/>
                  </a:lnTo>
                  <a:arcTo wR="74" hR="74" stAng="5400000" swAng="-5400000"/>
                  <a:lnTo>
                    <a:pt x="21600" y="74"/>
                  </a:lnTo>
                  <a:arcTo wR="74" hR="74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85880" y="5143680"/>
              <a:ext cx="1100160" cy="1650960"/>
            </a:xfrm>
            <a:custGeom>
              <a:avLst/>
              <a:gdLst>
                <a:gd name="textAreaLeft" fmla="*/ 360 w 1100160"/>
                <a:gd name="textAreaRight" fmla="*/ 1099800 w 1100160"/>
                <a:gd name="textAreaTop" fmla="*/ 360 h 1650960"/>
                <a:gd name="textAreaBottom" fmla="*/ 1650600 h 1650960"/>
              </a:gdLst>
              <a:ahLst/>
              <a:rect l="textAreaLeft" t="textAreaTop" r="textAreaRight" b="textAreaBottom"/>
              <a:pathLst>
                <a:path w="21600" h="32411">
                  <a:moveTo>
                    <a:pt x="31" y="0"/>
                  </a:moveTo>
                  <a:arcTo wR="31" hR="31" stAng="16200000" swAng="-5400000"/>
                  <a:lnTo>
                    <a:pt x="0" y="32380"/>
                  </a:lnTo>
                  <a:arcTo wR="31" hR="31" stAng="10800000" swAng="-5400000"/>
                  <a:lnTo>
                    <a:pt x="21569" y="32411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449600" y="5386320"/>
            <a:ext cx="1365480" cy="1371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963600" y="5068800"/>
            <a:ext cx="22305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pping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3920" y="4532400"/>
            <a:ext cx="14396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350120" y="5103720"/>
            <a:ext cx="1650960" cy="1376280"/>
            <a:chOff x="7350120" y="5103720"/>
            <a:chExt cx="1650960" cy="1376280"/>
          </a:xfrm>
        </p:grpSpPr>
        <p:grpSp>
          <p:nvGrpSpPr>
            <p:cNvPr id="126" name=""/>
            <p:cNvGrpSpPr/>
            <p:nvPr/>
          </p:nvGrpSpPr>
          <p:grpSpPr>
            <a:xfrm>
              <a:off x="7350120" y="5103720"/>
              <a:ext cx="1650960" cy="1376280"/>
              <a:chOff x="7350120" y="5103720"/>
              <a:chExt cx="1650960" cy="1376280"/>
            </a:xfrm>
          </p:grpSpPr>
          <p:sp>
            <p:nvSpPr>
              <p:cNvPr id="127" name=""/>
              <p:cNvSpPr/>
              <p:nvPr/>
            </p:nvSpPr>
            <p:spPr>
              <a:xfrm>
                <a:off x="7350120" y="5103720"/>
                <a:ext cx="1650960" cy="1376280"/>
              </a:xfrm>
              <a:custGeom>
                <a:avLst/>
                <a:gdLst/>
                <a:ahLst/>
                <a:rect l="l" t="t" r="r" b="b"/>
                <a:pathLst>
                  <a:path w="4584" h="3822">
                    <a:moveTo>
                      <a:pt x="2290" y="0"/>
                    </a:moveTo>
                    <a:cubicBezTo>
                      <a:pt x="1041" y="0"/>
                      <a:pt x="0" y="217"/>
                      <a:pt x="0" y="476"/>
                    </a:cubicBezTo>
                    <a:lnTo>
                      <a:pt x="0" y="3345"/>
                    </a:lnTo>
                    <a:cubicBezTo>
                      <a:pt x="0" y="3604"/>
                      <a:pt x="1041" y="3821"/>
                      <a:pt x="2290" y="3821"/>
                    </a:cubicBezTo>
                    <a:cubicBezTo>
                      <a:pt x="3539" y="3821"/>
                      <a:pt x="4583" y="3604"/>
                      <a:pt x="4583" y="3345"/>
                    </a:cubicBezTo>
                    <a:lnTo>
                      <a:pt x="4583" y="476"/>
                    </a:lnTo>
                    <a:cubicBezTo>
                      <a:pt x="4583" y="217"/>
                      <a:pt x="3541" y="0"/>
                      <a:pt x="2290" y="0"/>
                    </a:cubicBezTo>
                  </a:path>
                </a:pathLst>
              </a:custGeom>
              <a:solidFill>
                <a:srgbClr val="ffcc00"/>
              </a:solidFill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350120" y="5103720"/>
                <a:ext cx="1650960" cy="344520"/>
              </a:xfrm>
              <a:custGeom>
                <a:avLst/>
                <a:gdLst/>
                <a:ahLst/>
                <a:rect l="l" t="t" r="r" b="b"/>
                <a:pathLst>
                  <a:path w="4584" h="956">
                    <a:moveTo>
                      <a:pt x="2290" y="0"/>
                    </a:moveTo>
                    <a:cubicBezTo>
                      <a:pt x="1041" y="0"/>
                      <a:pt x="0" y="217"/>
                      <a:pt x="0" y="476"/>
                    </a:cubicBezTo>
                    <a:cubicBezTo>
                      <a:pt x="0" y="735"/>
                      <a:pt x="1041" y="955"/>
                      <a:pt x="2290" y="955"/>
                    </a:cubicBezTo>
                    <a:cubicBezTo>
                      <a:pt x="3539" y="955"/>
                      <a:pt x="4583" y="738"/>
                      <a:pt x="4583" y="476"/>
                    </a:cubicBezTo>
                    <a:cubicBezTo>
                      <a:pt x="4583" y="214"/>
                      <a:pt x="3541" y="0"/>
                      <a:pt x="2290" y="0"/>
                    </a:cubicBezTo>
                  </a:path>
                </a:pathLst>
              </a:custGeom>
              <a:solidFill>
                <a:srgbClr val="ffdf00"/>
              </a:solidFill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517880" y="5492520"/>
              <a:ext cx="129924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bj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370240" y="6551280"/>
            <a:ext cx="736560" cy="4806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30680" y="6551280"/>
            <a:ext cx="736920" cy="4806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734320" y="6537600"/>
            <a:ext cx="736560" cy="4806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9440" y="580680"/>
            <a:ext cx="860724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vious Work: Customizati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SS + Custom Templates = Sk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39840" y="3071880"/>
            <a:ext cx="3976560" cy="2982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602320" y="3002040"/>
            <a:ext cx="4068720" cy="3052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84600" y="4859280"/>
            <a:ext cx="808200" cy="1800"/>
          </a:xfrm>
          <a:prstGeom prst="line">
            <a:avLst/>
          </a:prstGeom>
          <a:ln w="164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9440" y="582480"/>
            <a:ext cx="8607240" cy="13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vious Work: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Browse &amp; GMOD-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85880" y="2770200"/>
            <a:ext cx="1069920" cy="472680"/>
          </a:xfrm>
          <a:prstGeom prst="roundRect">
            <a:avLst>
              <a:gd name="adj" fmla="val 29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H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40160" y="2101680"/>
            <a:ext cx="4586400" cy="1901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00280" y="5273640"/>
            <a:ext cx="1068120" cy="472680"/>
          </a:xfrm>
          <a:prstGeom prst="roundRect">
            <a:avLst>
              <a:gd name="adj" fmla="val 29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HG Mincho Light J"/>
              </a:rPr>
              <a:t>W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386160" y="4713120"/>
            <a:ext cx="4762440" cy="17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rst Us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35080" y="1917720"/>
            <a:ext cx="59500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